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jpeg" ContentType="image/jpeg"/>
  <Override PartName="/ppt/media/image18.wmf" ContentType="image/x-wmf"/>
  <Override PartName="/ppt/media/image20.png" ContentType="image/png"/>
  <Override PartName="/ppt/media/image17.png" ContentType="image/png"/>
  <Override PartName="/ppt/media/image16.wmf" ContentType="image/x-wmf"/>
  <Override PartName="/ppt/media/image29.png" ContentType="image/png"/>
  <Override PartName="/ppt/media/image14.wmf" ContentType="image/x-wmf"/>
  <Override PartName="/ppt/media/image6.png" ContentType="image/png"/>
  <Override PartName="/ppt/media/image36.png" ContentType="image/png"/>
  <Override PartName="/ppt/media/image28.jpeg" ContentType="image/jpeg"/>
  <Override PartName="/ppt/media/image7.jpeg" ContentType="image/jpeg"/>
  <Override PartName="/ppt/media/image33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12.wmf" ContentType="image/x-wmf"/>
  <Override PartName="/ppt/media/image37.png" ContentType="image/png"/>
  <Override PartName="/ppt/media/image38.png" ContentType="image/png"/>
  <Override PartName="/ppt/media/image10.png" ContentType="image/png"/>
  <Override PartName="/ppt/media/image13.wmf" ContentType="image/x-wmf"/>
  <Override PartName="/ppt/media/image27.jpeg" ContentType="image/jpeg"/>
  <Override PartName="/ppt/media/image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5.wmf" ContentType="image/x-wmf"/>
  <Override PartName="/ppt/media/image9.jpeg" ContentType="image/jpeg"/>
  <Override PartName="/ppt/media/image11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6026-1590-4FD9-B5D7-358DBEDD938A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2613-CB18-42B4-825D-6D8F6BACD6A5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2A5D-15A8-4880-8EDD-58D5BDC6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B652-F885-4E51-9DC9-79647A9F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114-EDA7-4662-B809-DC2A4B7D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A30C-E674-49AF-865E-630EB44A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4FED-B7D2-4B83-9075-44824333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A6DB-8E69-4C25-8923-C84D4D0A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601C-BB98-4619-BBBE-5ACEE886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723B-DB3D-4E17-BCC7-7329FBDA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3C20-BD45-43B7-B766-C5751E04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152F-D01E-4A33-B5DF-F2558C5F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CF00-C147-411B-899B-49CE93FC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1C57-E418-420A-B65E-CFF3ACB1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6ACF-B4CE-417F-B7A2-E78E4333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1119-0B69-4993-9139-5787DD4E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0C6B-A327-4E35-944A-579329C5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11CE-ED81-4AA3-812F-8F705B1E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4E7B-B5CB-4597-AD88-BDB1362E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43045-BCB2-4F8B-A724-BE8D218A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13576-351E-4414-90F1-509A89E4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2746B-2E11-477F-8F5B-15710D4A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72FF8-54BD-4857-A57C-041F6F77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243FB-DF33-41D5-A3D6-29FC6547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40C-EF49-4DF0-B035-6E27CF7C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12A61-28A1-41A8-A077-6D930353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E5C5F-1788-4559-8686-45B6497A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D4407-0028-4851-AE6D-1D025465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EDA49-0361-455C-80C9-BB09FAF4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AEF469-892A-4CC1-A7C6-10FC70C4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DA090-3966-473E-904F-09F9D873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2E62F-A080-47AD-B3D8-7BD979F2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6FEDF-F1AB-444D-8A93-409390AE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263E6-F797-4372-86E1-A76B2713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D6578-E7E6-4AFF-998F-A677E2AC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A52C-3C6C-40A6-9F02-BA87E0C2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C2081-84C5-4F29-A1ED-8EF73AC2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43F5E-CEF6-4456-B6EE-4A828EE0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725F2-C5AF-4A0E-B57A-4DEE9844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7429A-0241-4009-B6F9-5C70C29F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D3895-CA50-4BA7-950C-CF03836D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43308-415D-42C1-98BF-DA802462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EF634-CFC4-41F0-ACA7-D1E11D55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C5D2A-07A1-4B83-B40D-0C6D7A10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AE040-72D8-4C9B-BD5E-6794CE1B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FAACD7-209C-410F-BEFD-E5CDA444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362-D7C4-4485-9AF7-F40CAE76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AAEB4-EAD3-4F49-A782-77CB59AE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E97D28-1EB5-4F4C-A372-98E09A97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633F51-EA25-40EC-8612-D58B13DE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52E25-1EE9-4F55-9FFE-7DE825AB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7F2123-ED32-4340-BDB4-89A1510F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AC40D7-3A54-4613-8F1F-F6F4CDC3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B001F3-AAE9-4BD9-B3B2-9767086B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BC0D8E-10AA-4198-8106-3BB9C22A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7F3E8A-8D6A-4D2B-9AE1-94B54718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9990CC-F8D4-4EB9-9EF9-D2304FAE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C60-6E0A-4434-836F-0B3A4DEC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C7FFC1-82F0-446D-8B3F-B8FA93DE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7C4970-4A1C-4039-B3F4-D648EBB2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13DFED-BF1D-450E-A49B-5B19EFE2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660F1E-522C-4262-A6E5-33979FC1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C736A6-FB29-4802-9448-5519FB22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B8C07B-6E5F-4B7F-90A9-61CF0950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75FF15-3816-4B3A-8304-4435CB8C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9CD7AD-B5D1-400A-918F-94D78A00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F5063-08DF-4E7B-9DC0-72068BCF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CBCA53-6E11-44DC-9180-96549189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BC6-06C1-461A-ABCB-72EEFDB2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B025B0-0AE6-4E9D-A22D-8F55FF6A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D635DD-1C39-4145-B59F-7E7535BD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C11622-7C5B-494C-9B54-8BE7C0ED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0C65EF-83EA-4BFE-A0D5-A1F0FDDC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CE84F7-D73D-4C5F-80A0-7898FB8E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3ECFEA-8718-48F1-88CA-96076829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C04D2-A58F-4285-8EA6-A2FE160B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933307-99E5-40C0-A1FC-94E294DE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71E7AF-79A0-4724-A6EE-64E53A9D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43CB7B-34AF-41CD-95E9-ED0009CA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B11F-4000-4EA6-AC88-FD9E1F77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69975F-07B0-488D-8F51-5CEFC710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49B128-DF39-4498-877A-17C14D48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042E53-6295-4AE2-A3F8-6FCE507A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5263B9-67FF-4ED3-BE4C-534A865C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CCD665-92C8-48DE-AD0D-7F1F9C4B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A46-578A-4049-AAD6-17BF86AB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646D-BADE-4928-AEF4-A1F6ACA2B1A9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CDDA-F6DB-4A1C-B4F5-197FE60A4BA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89D3-BC87-4E67-A58E-0E6967C5469A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6566-2A0D-4357-B334-1C0D9ADC92C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6138-B5A0-4F0B-B113-B7F0F156DB59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FD5F-D9D6-4086-BD67-2A3EB8BB0DD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5C88-E71F-4266-9EBF-D57D14A9ECDF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FFCC-B33C-41D0-980D-E44D16008AD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2937-226B-4A5F-9974-8FF3F3585DB6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5A4B-4079-4692-A1A6-36EBF0ECC75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4657-9996-4564-8DF0-88CB5B054E6E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FCDC-8FEF-4FC2-961F-028BB5EA473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DD33-B238-4391-A915-8DA92702F01E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0162-6FE9-410A-AE6F-4E636DF8AC1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ference.medscape.com/features/slideshow/vision-loss-2012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adiologyassistant.nl/data/bin/a51910e08181d7_15-MS-typisch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discoverymedicine.com/Timothy-W-West/files/2013/10/discovery_medicine_no_88_timothy_w_west_figure_1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ASE DISCUSSION 1:</a:t>
            </a:r>
            <a:br>
              <a:rPr sz="3200"/>
            </a:b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EPIDEMIOLOGY &amp; CLINICAL FEATURE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r. Suhailah/Dr. Shelina/Dr. Saiful/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r. Darisah/Dr. Shant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D319-0E7B-4EC5-8656-EF4F1D1D9BA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6843600" y="0"/>
            <a:ext cx="222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QUESTION 3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75572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investigations are required to support a diagnosis of ON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600E-4CC8-4558-A8D0-F2235CB81EC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3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75572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Blood investiga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MRI orbit, brain &amp; whole spine with gadoliniu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CSF: Biochemistry, oligoclonal bands (OCB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Visual evoked potentials (VEPs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- prolonged P100 latencies &amp;/reduced amplitudes of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waveforms in 65% patients with 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Optical Coherence Tomography (OCT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B561-D6E4-4487-A2F7-FDD6C7B4F11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MRI ORBIT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3" name="slide_image3" descr="http://img.medscape.com/pi/features/slideshow-slide/vision-loss-2012/fig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219320"/>
            <a:ext cx="6934320" cy="43434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4"/>
          <p:cNvSpPr/>
          <p:nvPr/>
        </p:nvSpPr>
        <p:spPr>
          <a:xfrm>
            <a:off x="990720" y="5638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contrast-enhanced T1-weighted MRI shows abnormal enhancement of the left optic ne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4856-642E-4C94-B921-FD9048D9A9E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MRI BRAIN &amp; SPINE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in51910dfff35c3" descr="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95560" y="1295280"/>
            <a:ext cx="4457520" cy="5156280"/>
          </a:xfrm>
          <a:prstGeom prst="rect">
            <a:avLst/>
          </a:prstGeom>
          <a:ln w="0">
            <a:noFill/>
          </a:ln>
        </p:spPr>
      </p:pic>
      <p:sp>
        <p:nvSpPr>
          <p:cNvPr id="398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A86E-22FA-48D7-ACCD-00FD5F432A3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CSF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Content Placeholder 3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095880" cy="5486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B221-0DA9-46F1-9814-CB558DF701D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VEP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3" name="Content Placeholder 3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239240" cy="403848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380880" y="53341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Century Schoolbook"/>
              </a:rPr>
              <a:t>The RIGHT eye peak latencies are in normal range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Century Schoolbook"/>
              </a:rPr>
              <a:t>The LEFT eye peak latencies are significantly dela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B3B6-0F07-4489-BC80-2A09085FFF3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OCT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7" name="Content Placeholder 6" descr="http://4.bp.blogspot.com/_qmud-Nv3UXg/S8D163aC3MI/AAAAAAAAAAc/8nxDZ5gJHyM/s1600/OCT.jpg"/>
          <p:cNvPicPr/>
          <p:nvPr/>
        </p:nvPicPr>
        <p:blipFill>
          <a:blip r:embed="rId1"/>
          <a:stretch/>
        </p:blipFill>
        <p:spPr>
          <a:xfrm>
            <a:off x="947880" y="1254240"/>
            <a:ext cx="7205400" cy="4038480"/>
          </a:xfrm>
          <a:prstGeom prst="rect">
            <a:avLst/>
          </a:prstGeom>
          <a:ln w="0">
            <a:noFill/>
          </a:ln>
        </p:spPr>
      </p:pic>
      <p:sp>
        <p:nvSpPr>
          <p:cNvPr id="408" name="TextBox 4"/>
          <p:cNvSpPr/>
          <p:nvPr/>
        </p:nvSpPr>
        <p:spPr>
          <a:xfrm>
            <a:off x="990720" y="54450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NFLT of &lt; 70µm predicts worse VA outcome at 3 months after ON (p=0.019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2CB2-A47E-4D91-A653-8130B9021BD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n further history, patient had a history of numbness of both lower limbs, associated with difficulty in passing urine 2 years ago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he went to see a GP who treated her for presumed urinary tract infec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er symptoms resolved within 2 week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Q4. What are your differential diagnose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2605-FF6B-49B3-B5DA-D7293293C16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4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Transverse myelitis (TM) with sphincteric involvem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Idiopathic Inflammatory Demyelinating Disease (IIDD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Multiple scler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Neuromyelitis optica spectrum disorder (NMOS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FD37-00AA-4866-BA8E-AEDB18B151C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QUESTION 5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are the investigations to support your diagnosis of TM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AE58-02A0-4D67-BB4D-0CD62A6B12E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143000"/>
            <a:ext cx="807732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2 year-old Malay lad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ast semester in electrical engineering cours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 days h/o painful blurring of vision of left ey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ifficult to differentiate the colours of electrical wir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ent to see a general practitioner (GP) &amp; referred to an ophthalmologi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Q1. What are the features in this patient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which are suggestive of optic neuritis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(ON)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7720-4E23-4E27-BEFA-28120A377FF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5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MRI of the spinal cor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Evoked potential study: Somatosensory evoked potentials (SSEP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A673-56E1-4495-BE4C-6FB84DC5B15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QUESTION 6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are the clinical features suggestive of TM diagnosi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3671-C756-43E1-95F5-6ED80515DD6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6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cute complete TM (ACTM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6120" indent="-2732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flammatory process of the spinal cord causing a symmetrical &amp; moderate to severe loss of function distal to the level of lesion, usually with sphincteric involve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6120" indent="-27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cute partial TM (APTM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6120" indent="-2732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omplete or patchy involvement of at least 1 spinal segment with mild to moderate weakness, asymmetrical or dissociated sensory symptoms, &amp; occasionally bladder involve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BE8A-D95D-487E-AADA-F56B19B208E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MRI IMAGES ACTM VS APTM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9" name="Object 35" descr=""/>
          <p:cNvPicPr/>
          <p:nvPr/>
        </p:nvPicPr>
        <p:blipFill>
          <a:blip r:embed="rId1"/>
          <a:stretch/>
        </p:blipFill>
        <p:spPr>
          <a:xfrm>
            <a:off x="457200" y="3308400"/>
            <a:ext cx="4040280" cy="2754360"/>
          </a:xfrm>
          <a:prstGeom prst="rect">
            <a:avLst/>
          </a:prstGeom>
          <a:ln w="0">
            <a:noFill/>
          </a:ln>
        </p:spPr>
      </p:pic>
      <p:pic>
        <p:nvPicPr>
          <p:cNvPr id="430" name="Content Placeholder 7" descr="Figure 1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26668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557280" y="1014480"/>
            <a:ext cx="3839400" cy="1856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agittal T2 (A) image demostrates lesion within the spinal cord (arrow). The same lesion as seen on the axial T2 (B) image, occupying only part of the spinal cor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756680" y="1026000"/>
            <a:ext cx="3970800" cy="2062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8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agittal (A) &amp; axial (B) T2-weighted images in a patient with CDMS. Note that the lesions are &lt;2 cord segments, ovoid &amp; peripherally located [seen most clearly on the axial image labeled (B)]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E7A4-F2B0-4CB6-A722-BE3764E73AD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entury Schoolbook"/>
              </a:rPr>
              <a:t>DIFFERENTIAL DIAGNOSIS UPON PRESENTATION WITH DEMYELINATING SPINAL CORD SYNDROME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5" name="Picture 2" descr="C:\Users\DELL\Pictures\TM flow chart.PNG"/>
          <p:cNvPicPr/>
          <p:nvPr/>
        </p:nvPicPr>
        <p:blipFill>
          <a:blip r:embed="rId1"/>
          <a:stretch/>
        </p:blipFill>
        <p:spPr>
          <a:xfrm>
            <a:off x="284040" y="1295280"/>
            <a:ext cx="8250480" cy="5410440"/>
          </a:xfrm>
          <a:prstGeom prst="rect">
            <a:avLst/>
          </a:prstGeom>
          <a:ln w="0">
            <a:noFill/>
          </a:ln>
        </p:spPr>
      </p:pic>
      <p:sp>
        <p:nvSpPr>
          <p:cNvPr id="436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9588-E9A2-4D18-B826-5A92AB82948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CASE DISCUSSION 2: </a:t>
            </a:r>
            <a:br>
              <a:rPr sz="3200"/>
            </a:b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DIFFERENTIALS &amp; DIAGNOSTIC CRITERIA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entury Schoolbook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r. Shanti/Dr. Ooi Phaik Yee/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r. Kartikasalwah/Dr. Norzain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99FF-0DD0-4C88-9E4C-F8799647E94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6843600" y="0"/>
            <a:ext cx="222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ISTORY (CONT.) …. CURRENT EPISODE OF ON, PAST HISTORY OF POSSIBLE MYELITIS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Young female, in her 30’s, no F/H similar episod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rst episod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typical of 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urther hist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prior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istorical evidence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f a possible myelitis, MRI spine was not done at that tim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AD4D-D87A-47BB-8894-CCAB4C9B12A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ye examinatio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ft eye RAPD, reduced VA, impaired colour vision with a hyperaemic dis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otor &amp; sensory examinatio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akness in right lower limbs with power of 4+/5, brisk reflex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reased tone &amp; bilateral upgoing planta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duced vibration sense till the hips bilateral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DAC5-B89D-41AB-AAE2-7E73C751F06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se findings suggest the presence of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urrent left eye ON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th prior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historical evidence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 a partial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orroborated by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bjective sign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n neurological examin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evidence of dissemination in time &amp; space (DIT, DI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Look at all possible differential diagnosis of ON &amp; TM occurring sequentiall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i.e. differential diagnoses of neurological conditions with DIT &amp; DI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Q7. What are the differential diagnoses i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this case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0770-13DE-4AF6-BE99-B99FB065F74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7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6840" y="13716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IDD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ltiple scler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MOS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ute Disseminated Encephalomyelitis (ADEM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ther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sculitis - SLE, Sjogren’s Syndro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scular causes - atheroscler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anulomatous disorder - sarcoid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12 deficienc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ympho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CDC6-61E5-4070-B58C-46F568FEB4E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inful blurring of vis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lour vision problem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1C6F-3876-45E1-85DF-2D03D8ECEE6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7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5331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 h/o encephalopathy, antecedent fever or immunisation, &amp; the temporal history is not suggestive of ADE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 h/o joint pains, alopecia, oral ulcers, dry eyes or mouth to suggest CTD (e.g. SLE/Sjogren’s syndrom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 h/o DM/HPT/dyslipidaemia to suggest atherosclerosis with optic nerve &amp; cord involvement as the recovery would be poor, older age group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4E0E-0ACF-496F-A117-7A07C774922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7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533160" y="147780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MOSD is possible - however eye recovery is rather good but still needs TR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arcoidosis is possible - however no facial nerve/uveitis at onset; chest x-ray would be useful to look for hilar lymphadenopathy, serum AC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38C7-B22E-42B0-AA8D-5347597A031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Content Placeholder 2"/>
          <p:cNvSpPr/>
          <p:nvPr/>
        </p:nvSpPr>
        <p:spPr>
          <a:xfrm>
            <a:off x="685800" y="4830840"/>
            <a:ext cx="7543800" cy="144756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dentify typical features of MS from history, clinical examination, CSF, neuroimaging &amp; 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7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1447920" y="579600"/>
            <a:ext cx="6095880" cy="6161040"/>
          </a:xfrm>
          <a:prstGeom prst="rect">
            <a:avLst/>
          </a:prstGeom>
          <a:ln w="0">
            <a:noFill/>
          </a:ln>
        </p:spPr>
      </p:pic>
      <p:sp>
        <p:nvSpPr>
          <p:cNvPr id="462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7C4A-007A-49FF-BE1D-8F21892441E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30200"/>
            <a:ext cx="77724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NEED TRO ALL OTHER DIFFERENTIAL DIAGNOSES &amp; BE AWARE OF RED FLAGS FOR M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365200"/>
            <a:ext cx="792468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nic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aboratory/paraclinic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uroimag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ED6F-8954-45A3-8456-4E8F13568E4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CLINICAL RED FLAG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838080" y="1249200"/>
            <a:ext cx="6010560" cy="17528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468" name="Picture 3" descr=""/>
          <p:cNvPicPr/>
          <p:nvPr/>
        </p:nvPicPr>
        <p:blipFill>
          <a:blip r:embed="rId2"/>
          <a:stretch/>
        </p:blipFill>
        <p:spPr>
          <a:xfrm>
            <a:off x="2819520" y="3154320"/>
            <a:ext cx="5902200" cy="32004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469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B9EC-7289-4F1F-A19E-3F6553E4D3F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LABORATORY/PARACLINICAL RED FLAG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1"/>
          <a:stretch/>
        </p:blipFill>
        <p:spPr>
          <a:xfrm>
            <a:off x="639720" y="2362320"/>
            <a:ext cx="7736040" cy="266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72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E094-104E-4278-B12D-745106739D7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NEUROIMAGING RED FLAG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263000" cy="3886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75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3870-3896-490A-9790-9D0B7F21AA7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"/>
          <p:cNvPicPr/>
          <p:nvPr/>
        </p:nvPicPr>
        <p:blipFill>
          <a:blip r:embed="rId1"/>
          <a:srcRect l="3257" t="2222" r="10795" b="0"/>
          <a:stretch/>
        </p:blipFill>
        <p:spPr>
          <a:xfrm>
            <a:off x="304920" y="158760"/>
            <a:ext cx="6478560" cy="6546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77" name="TextBox 3"/>
          <p:cNvSpPr/>
          <p:nvPr/>
        </p:nvSpPr>
        <p:spPr>
          <a:xfrm>
            <a:off x="6934320" y="2565360"/>
            <a:ext cx="182880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Schoolbook"/>
              </a:rPr>
              <a:t>Differences between MS &amp; N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9A57-6656-4D8B-8FE1-BEB1CCB1606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QUESTION 8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68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oes this patient fulfill the clinical criteria for CDM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6431-7240-43D7-BFD4-51D274BDA63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8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6094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9088-1513-4F4C-A30A-E1F9788B9AC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tretch/>
        </p:blipFill>
        <p:spPr>
          <a:xfrm>
            <a:off x="216000" y="1143000"/>
            <a:ext cx="8470800" cy="40384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"/>
          <p:cNvPicPr/>
          <p:nvPr/>
        </p:nvPicPr>
        <p:blipFill>
          <a:blip r:embed="rId2"/>
          <a:stretch/>
        </p:blipFill>
        <p:spPr>
          <a:xfrm>
            <a:off x="1166760" y="5029200"/>
            <a:ext cx="6453360" cy="1752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QUESTION 2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are the other clinical signs of ON you would look for in this patient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9F6C-53BE-4812-87AB-FDD138C6EAD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684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Diagnostic criteria….  McDonald 2010 revised criter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urrent accepted diagnostic criteria for MS diag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orporat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499"/>
              </a:spcBef>
              <a:buClr>
                <a:srgbClr val="fe863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linical finding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499"/>
              </a:spcBef>
              <a:buClr>
                <a:srgbClr val="fe863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araclinical investigations (laboratory &amp; neuroimaging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D05B-BF5F-4E40-AE1A-2D456DD4C3C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68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ll criteria are fulfilled, typical MRI findings, “No better explanation from history”, &amp; investigatio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Diagnosis is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Multiple sclerosi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2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088C-CCBF-4F59-84DE-D8C1E4F9B08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)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8288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RI has been don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6CE0-2ECD-4954-8786-39532BBA20E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RI T2 AX BRAIN IMAGE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8F01-7412-4E41-84AE-A4C77A1D4F9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520380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7498-FE81-40A3-92E7-844CB61536A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2666880" y="165240"/>
            <a:ext cx="3760920" cy="66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CASE DISCUSSION 3: </a:t>
            </a:r>
            <a:br>
              <a:rPr sz="3200"/>
            </a:b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PHARMACOLOGICAL MANAGEMENT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P Dr. Tan Hui Jan/Dr. Sufian/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r. Joyce/Mr. Thian Soon Yew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3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63BD-5623-48BC-9BE8-25B57FBCDA1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6843600" y="0"/>
            <a:ext cx="222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HISTORY (CONT.)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6840" y="14778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neurologist has diagnosed her with CDMS. MRI brain &amp; spine findings also fulfill the McDonald imaging criteria for M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Q9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What are the treatments for acute relapse in M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What are the indications for starting first-line disease modifying treatment (DMT) in CDM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DA83-F2D2-46FC-91FF-96FF54DF8BC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9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17521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Acute relaps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04AD-AD3C-45BC-AC27-F9088A14E30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2105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9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75572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Acute 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IV methylprednisolone 250 mg 6-hourly for 3 days followed by oral prednisolone at 1 mg/kg for 11 days with a fast tap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2F47-A663-4C53-88F3-B917E5F07B7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6840" y="175572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Indications for starting first-line DMT in CDM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2 clinically significant relapses in previous 2 years (active MS)*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able to walk ≥10 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not pregnant or attempting concep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aged &gt;18 yea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no contraindica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7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49A0-35FE-4175-9D90-EF9618A90BF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itle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2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Reduced visual acuity (VA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Colour vision los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Presence of Relative Afferent Pupillary Defect (RAPD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Visual field (VF) loss (central scotoma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Reduced contrast sensitiv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Optic disc (OD) swell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Contralateral OD pallor or swell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250A-76BF-4A14-A709-4E2F118CFDE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6840" y="17064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Aim of DM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Reduce relapse ra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Delay disability progres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Reduce radiologically active or new brain lesions on MR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entury Schoolbook"/>
              </a:rPr>
              <a:t>treatment selection should be individualised based on accessibility, availability, efficacy, tolerability &amp; safety of DMTs, prognostic factors, co-morbidities &amp; patient’s preferen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1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4A41-9936-45E3-AB15-7E4B9D85D93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itle 1"/>
          <p:cNvSpPr/>
          <p:nvPr/>
        </p:nvSpPr>
        <p:spPr>
          <a:xfrm>
            <a:off x="457200" y="3808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9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4921-B418-4958-B356-F9CAC81C1F3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415800" y="2971800"/>
            <a:ext cx="8118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6840" y="1752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DMTs in treatment of RRM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20E7-C81E-45CB-A5C1-37821A20372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tle 1"/>
          <p:cNvSpPr/>
          <p:nvPr/>
        </p:nvSpPr>
        <p:spPr>
          <a:xfrm>
            <a:off x="457200" y="42696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99880" y="2743200"/>
            <a:ext cx="8234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12189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fter starting DMT, the patient is well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he has completed her engineering cours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cently, she’s married &amp; </a:t>
            </a: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planning to get pregnant; thus she’s advised to stop the DMT 3 months prior to conceptio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She is currently pregnant with her first child &amp; is in her first trimester. While pregnant, she develops a spinal cord relapse with weakness of lower limb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Q10. How would you treat this acut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relapse in pregnancy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308A-4878-4E7E-9FBD-2B87EE41F5B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IV immunoglobulin - treatment of choice in pregnanc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There is lack of evidence on the safety of steroids in pregnant MS patients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IV methylprednisolone is associated with an increased risk of cleft lips &amp; palate in the first trimester of pregnanc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IV methylprednisolone may be offered to MS patients with acute relapses in second &amp; third trimester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CC79-7B7E-488D-B6E9-EFE4418D812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She recovers fully &amp; has an uneventful deliver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She would like to breastfeed her bab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Q11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How would you advise her on breastfeeding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When would you re-initiate the DMT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AFB9-4D37-42D6-A63A-2D1655F0A76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1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DMT is not advisable during lact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DMT can be started immediately postpartum as long as the patient is not breast-feeding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1610-93D6-4BAA-AA1C-6B431BFA685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68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She is re-initated with DMT at 6 weeks post-partu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6 months later, she presents to the hospital with a complaint of right blurring of vision. She recovers fully after high dose IV methylprednisolon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Unfortunately, she develops another relapse with unsteady gait &amp; diplopia 3 months later. She shows poor response to IV methylprednisolone the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Q12. What is your next step of managemen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5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3DEB-B08B-4640-9775-D0B5786B7B6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2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FA54-4A81-4EF9-A59E-1FF6A475BF2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" descr=""/>
          <p:cNvPicPr/>
          <p:nvPr/>
        </p:nvPicPr>
        <p:blipFill>
          <a:blip r:embed="rId1"/>
          <a:stretch/>
        </p:blipFill>
        <p:spPr>
          <a:xfrm>
            <a:off x="250920" y="2438280"/>
            <a:ext cx="8310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6840" y="175572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he has partial response to PE &amp; is left with residual weakness. She is currently ambulating with a quadripod (EDSS 4.5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1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5B08-040F-4EF0-8028-ACAC22EC562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2. FEATURES OF 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066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Eye pai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esent in &gt;90% of cas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orse on eye movement, resolves within a wee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Central visual los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sually mononuclear, bilateral onset is rare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(0.4%)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Red Flag! NMOS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gress over hours to days, recover within 2 to 4 weeks; 75% recovers by 1 month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Red Flag! Progression beyond 2 weeks → other ddx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Optic neuropath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duced VA between 6/6 to NP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esence of RAP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olour vision lo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F loss (classically central scotoma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duced contrast sensitiv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Fundoscop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2/3 normal OD (retrobulbar neuriti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1/3 mild &amp; diffuse OD swelli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ptic-nerve head atrophy (disc pallor), occurs after few weeks inspite of VA recover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975F-BD8F-4C7D-9404-7312A515765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RI OF BRAI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FB65-2AF1-4106-80A8-1F3D380FA1D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3" descr="C:\Users\user\Documents\102APPLE\IMG_1619.JPG"/>
          <p:cNvPicPr/>
          <p:nvPr/>
        </p:nvPicPr>
        <p:blipFill>
          <a:blip r:embed="rId1"/>
          <a:srcRect l="0" t="30004" r="14166" b="18337"/>
          <a:stretch/>
        </p:blipFill>
        <p:spPr>
          <a:xfrm>
            <a:off x="4952880" y="2765520"/>
            <a:ext cx="3200400" cy="25686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" descr="C:\Users\user\Documents\102APPLE\IMG_1550.JPG"/>
          <p:cNvPicPr/>
          <p:nvPr/>
        </p:nvPicPr>
        <p:blipFill>
          <a:blip r:embed="rId2"/>
          <a:stretch/>
        </p:blipFill>
        <p:spPr>
          <a:xfrm>
            <a:off x="762120" y="1828800"/>
            <a:ext cx="3809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RI OF SPINE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D94D-F2E7-4C67-9BA1-E9005FAD156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5" descr="C:\Users\user\Documents\101APPLE\IMG_3007.JPG"/>
          <p:cNvPicPr/>
          <p:nvPr/>
        </p:nvPicPr>
        <p:blipFill>
          <a:blip r:embed="rId1"/>
          <a:srcRect l="33891" t="56878" r="33058" b="14374"/>
          <a:stretch/>
        </p:blipFill>
        <p:spPr>
          <a:xfrm>
            <a:off x="4917960" y="2895480"/>
            <a:ext cx="2168640" cy="25146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C:\Users\user\Documents\102APPLE\IMG_1496.JPG"/>
          <p:cNvPicPr/>
          <p:nvPr/>
        </p:nvPicPr>
        <p:blipFill>
          <a:blip r:embed="rId2"/>
          <a:srcRect l="25509" t="14306" r="38103" b="-341"/>
          <a:stretch/>
        </p:blipFill>
        <p:spPr>
          <a:xfrm>
            <a:off x="1709640" y="1800360"/>
            <a:ext cx="22528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QUESTION 13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6840" y="175572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is your next step of management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6380-AE0D-481D-BCCD-9787598117A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13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75572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s patient has evidence of rapidly evolving M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relapses/yea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sening of EDSS from base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RI brain shows active dise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A97D-4059-4F46-A788-CAB85C63F96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13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55412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ased on the CPG, the treatment should be escalated to second-line therap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8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12AE-705D-4B1F-A0C3-CCC0EC69993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457200" y="2811600"/>
            <a:ext cx="7772400" cy="10731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"/>
          <p:cNvPicPr/>
          <p:nvPr/>
        </p:nvPicPr>
        <p:blipFill>
          <a:blip r:embed="rId2"/>
          <a:stretch/>
        </p:blipFill>
        <p:spPr>
          <a:xfrm>
            <a:off x="460440" y="4068720"/>
            <a:ext cx="77691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43CC-1483-4089-8A1B-581AF35E0B0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2608200" y="299880"/>
            <a:ext cx="5240520" cy="6207120"/>
          </a:xfrm>
          <a:prstGeom prst="rect">
            <a:avLst/>
          </a:prstGeom>
          <a:ln w="0">
            <a:noFill/>
          </a:ln>
        </p:spPr>
      </p:pic>
      <p:sp>
        <p:nvSpPr>
          <p:cNvPr id="573" name="Title 2"/>
          <p:cNvSpPr/>
          <p:nvPr/>
        </p:nvSpPr>
        <p:spPr>
          <a:xfrm>
            <a:off x="457200" y="27468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CASE DISCUSSION 4</a:t>
            </a:r>
            <a:br>
              <a:rPr sz="3200"/>
            </a:b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REHABILITATI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r. Izmi/Dr. Akmal/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r. Sheela/Dr. Chee Kok Yo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03EF-F1BE-4C6C-8C89-2573960836F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6843600" y="0"/>
            <a:ext cx="222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6840" y="1832040"/>
            <a:ext cx="792468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he is struggling with her disability &amp; taking care of her baby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ater, she develops depressive featur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Q14. What is your next step of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management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0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1CDE-7E11-4C18-B1FB-B6FFD10FD04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4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6840" y="170640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Clinical assessment of depressive features: is it an Adjustment Disorder or Major Depressive Disorder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In case of MD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86BB-4A26-4226-8236-ED3D03501A6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452520" y="4145040"/>
            <a:ext cx="80373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68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tient  is referred for Rehabilitation Programm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Q15. </a:t>
            </a: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Describe the concept of a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rehabilitation programme &amp; its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goal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7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812E-297F-4863-86C1-AD090188841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2. FUNDOSCOPY IN 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Content Placeholder 3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867640" cy="4572000"/>
          </a:xfrm>
          <a:prstGeom prst="rect">
            <a:avLst/>
          </a:prstGeom>
          <a:ln w="0">
            <a:noFill/>
          </a:ln>
        </p:spPr>
      </p:pic>
      <p:sp>
        <p:nvSpPr>
          <p:cNvPr id="379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3148-575C-4576-A23A-93C76DA5158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5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habilitation progamme involv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multidisciplinary interventions focusing on reducing symptoms &amp; limitations at the level of activity &amp; participation.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s is done through interventions which include personal &amp; environmental factors,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achieve the highest possible independence &amp; the best quality of lif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(QoL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f MS patients within the limits of the disease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0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3D3A-C2A3-46E1-B06E-A47721E1154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68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From assessment, she has bilateral lower limbs paraparesis with proximal muscle strength of 4/5 &amp; distally of 2/5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Q16. What is the management strategy to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address her impairment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F5AB-9E4D-459E-A379-DD3BE0F6376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6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A6F1-A75B-4121-A318-7888A729834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560520" y="1990800"/>
            <a:ext cx="7897680" cy="364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7" name="Rounded Rectangle 4"/>
          <p:cNvSpPr/>
          <p:nvPr/>
        </p:nvSpPr>
        <p:spPr>
          <a:xfrm>
            <a:off x="914400" y="4495680"/>
            <a:ext cx="7543800" cy="91440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"/>
          <p:cNvSpPr/>
          <p:nvPr/>
        </p:nvSpPr>
        <p:spPr>
          <a:xfrm>
            <a:off x="560520" y="2438280"/>
            <a:ext cx="7897680" cy="1981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6840" y="175572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Muscle tone shows spasticity of her bilateral plantarflexors with Modified Ashworth Scale Grade 2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This impairs her ambul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Q17. List the  potential management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strategy for her spasticity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complicatio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9AED-9832-4AC2-B793-BCA5E86425B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7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C39B-DF6A-446C-9839-E2B84795851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4" descr=""/>
          <p:cNvPicPr/>
          <p:nvPr/>
        </p:nvPicPr>
        <p:blipFill>
          <a:blip r:embed="rId1"/>
          <a:stretch/>
        </p:blipFill>
        <p:spPr>
          <a:xfrm>
            <a:off x="311040" y="2057400"/>
            <a:ext cx="8309160" cy="2971800"/>
          </a:xfrm>
          <a:prstGeom prst="rect">
            <a:avLst/>
          </a:prstGeom>
          <a:ln w="0">
            <a:noFill/>
          </a:ln>
        </p:spPr>
      </p:pic>
      <p:sp>
        <p:nvSpPr>
          <p:cNvPr id="605" name="Rounded Rectangle 4"/>
          <p:cNvSpPr/>
          <p:nvPr/>
        </p:nvSpPr>
        <p:spPr>
          <a:xfrm>
            <a:off x="228600" y="3657600"/>
            <a:ext cx="8451720" cy="14479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ounded Rectangle 2"/>
          <p:cNvSpPr/>
          <p:nvPr/>
        </p:nvSpPr>
        <p:spPr>
          <a:xfrm>
            <a:off x="311040" y="2590920"/>
            <a:ext cx="8309160" cy="106668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68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She is concern about increasing tiredness at work especially towards the end of the da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Q18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What is the likely description of her symptom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What should be the advice for her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ECBE-6F11-4C20-8BB0-6A86941B3DA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6840" y="17812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Fatigu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Advice for her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E475-F620-44C2-A34F-1C467E85CDC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380880" y="3381480"/>
            <a:ext cx="81918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68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On screening of MS-related symptoms,  she reports increasing sensation of incomplete voiding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Q19. Outline your management pla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2414-E772-4887-9344-3FBE4F12C5D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9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8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0B58-EF07-41D6-9C90-74F4C98C397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18148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9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0FDA-8AC7-4FC2-BF32-B25E431D7DD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512640" y="1143000"/>
            <a:ext cx="7945560" cy="22366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" descr=""/>
          <p:cNvPicPr/>
          <p:nvPr/>
        </p:nvPicPr>
        <p:blipFill>
          <a:blip r:embed="rId2"/>
          <a:stretch/>
        </p:blipFill>
        <p:spPr>
          <a:xfrm>
            <a:off x="525600" y="3352680"/>
            <a:ext cx="7599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2. ATYPICAL FEATURES OF ON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75572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tinal haemorrhag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arkedly swollen optic nerv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tinal exuda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bsence of pa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 light perception (NLP) vision at onse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bsence of any visual recovery by 30 day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98C1-9629-4357-BFE4-216DF813140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68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Visual assessment shows significantly impaired func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Q20. What is the strategy to minimise her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disability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CDC7-FB50-4AE4-B7A2-C7FCEF46CAE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2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68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Low vision rehabilitation using low vision aid (magnifiers, prisms, telescopes, electronic devices &amp; large-text reading material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Training to maximise participation in independent liv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0F90-B5F1-4929-8173-41D50FF9D7B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entury Schoolbook"/>
              </a:rPr>
              <a:t>THANK YOU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DABE-8937-4744-B6D9-F301E79DAE7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2. DIFFERENTIAL DIAGNOSIS OF DEMYELINATING 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75572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ther autoimmune conditions: sarcoidosis, SLE, Sjogren’s syndrom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fective: Syphilis, TB, viral infections, cat scratch, Lyme’s diseas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uromyelitis optica spectrum disorder (NMOSD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mpressive optic neuropath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nterior ischaemic optic neuropath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eber’s Hereditary Optic Neuropath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16BD-D56C-44F4-9205-7FAF94B91D3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5:16:28Z</dcterms:created>
  <dc:creator>kkm</dc:creator>
  <dc:description/>
  <dc:language>en-US</dc:language>
  <cp:lastModifiedBy>DrAmin</cp:lastModifiedBy>
  <dcterms:modified xsi:type="dcterms:W3CDTF">2016-12-03T03:01:52Z</dcterms:modified>
  <cp:revision>140</cp:revision>
  <dc:subject/>
  <dc:title>Case Discussion 1</dc:title>
</cp:coreProperties>
</file>